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8E1-61B3-495D-A9D7-FB80F7C6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86D-B5CA-4255-BE73-E0A97962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AB4-532F-49D1-97C6-0D16956B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9AB-4C4E-48C0-9660-C2DA7733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3F79-0CAE-4A4B-8A91-BC0E7221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54FF-4130-4F79-A583-1CB3DC61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F836-9643-42A7-B418-2116125A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A47E-2299-42E7-9631-9658BE36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E9ED-31F7-4D2E-ACA4-EA47DD6F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0DED-CB44-48E5-8FF7-BD39E31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C7BD-9A10-41FE-B10C-673A94B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DD4-AA70-4F25-BC59-9154BA66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97A6-52DA-4EAD-A522-D54A6F69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EE97-5650-4498-ADD7-366B1307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4739-239A-4374-87BB-1D81A864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E99A-72DD-45CD-B64D-C54CA2D2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0954-9EF5-4AA9-871C-B8E609E6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B76-6A37-4DA5-884F-2E50C1FE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108-C985-4B64-9E4D-4471E906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CB3-51A5-4261-B7CA-71003EA6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129-0827-4B02-B657-96A5FF1E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B5A-8083-4C38-9CF4-AF587FD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466-29F6-4DC5-BC51-92EDDFB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A43-BB09-4AC3-A45F-9E2687D9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0CAE-EC12-49CE-AD33-8D385361D3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E2EB-0010-457E-9E6A-972A23519D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upporting Early Literacy Learn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lar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,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Develop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knowledge is comp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supports both learning to read and reading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grows through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icit teaching of vocabulary is effective – and necess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need to stimulate vocabulary grow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rehension Develop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on is not just finding                                 answers in a piece of text – it is an active process whereby the reader creates a version of the text in his or her m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rehension Develop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on needs to be taught not just te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ariety of reading materials should be used, including short 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listening should be 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ers need multiple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interactive writing, the process is as important as the product. It might be said that what we learn on the journey is more important than reaching the destination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active Writing and Interactive Editing, p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odelled/Interactive Writing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Negotiating the composition of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llaborating in the construction of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ing the conventions of pr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ding and rereading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arching, checking and confirming while reading and wri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ing the reading of text as a model to co-operatively write new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strategy that supports comprehension through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ri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nstruct existing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novation on 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 a familiar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ot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l com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betic Princ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pts about Pr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mic Awareness and Pho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Language Con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phabetic Princi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 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 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-name correspo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-sound correspon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betic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pts about Pr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-to-one mat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sw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ing, indentation, paragraph form, text lay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pt of first and last part of word, sentence, 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ctuation, reading the punc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mic Awareness and Pho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ring sounds in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ectional end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ym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llab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und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set and r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unking and bl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t wo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aching Children to Read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sential for read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mic awar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ing flu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bulary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nemic Awareness and Phonics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unds in sequ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og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frequency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lling patt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onants, blends, short and long vowels, digraphs, diphtho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it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ixes, prefixes and root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phors and simi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Language Con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ctuation and capita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lling and word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tence stru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es and metaph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phones, antonyms, synony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s of spe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 u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egular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omatopoe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elled/Interactive Wri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a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of reading and edi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l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cabulary and word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ept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s, plot, se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ing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graph 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Strateg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your head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room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a part you kn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that look r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nemic Aware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to tune into separate single s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able to play with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nd them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gment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ap them ar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nemic Aware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honemic Awareness Subskil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oneme iso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ecognise the separate phonemes in a 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oneme bl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istening to a sequence of phonemes and then combine them into a 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oneme seg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ount out the separate phonemes inn a word, saying each sound as they tap it or count 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oneme 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honeme deletion, addition and a combination of bo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derstanding that there is a predictable relationship between the individual sounds (phonemes) of spoken language and letters (graphemes) that represent those sounds in written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tic phonics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s to the process of synthesising or blending individual sounds toge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ed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terature based involves pointing out letter-sound relationships to children incidentally while engaged in reading motivating and engaging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t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whole words and involves drawing children’s attention to and analysing word p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veloping flu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to read accurately, quickly and with ex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 correlation between fluency and compreh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 knowledge of material being r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trieval of relevant vocabul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of syntax to allow reader to predict upcoming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veloping flu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re components of fl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emands that the text be at the reader’s independent reading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apid rate of r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hen a reader is accurate and rapid, the word identification processes have become automat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ading with expression (pros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e of appropriate phrasing, stress, pitch and rhyth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cabulary Develop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ze of vocabulary is critical to success in reading and in broader academic achiev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6:20Z</dcterms:created>
  <dc:creator>ZrnaJ</dc:creator>
  <dc:description/>
  <dc:language>en-US</dc:language>
  <cp:lastModifiedBy>ZrnaJ</cp:lastModifiedBy>
  <dcterms:modified xsi:type="dcterms:W3CDTF">2011-04-01T02:57:26Z</dcterms:modified>
  <cp:revision>16</cp:revision>
  <dc:subject/>
  <dc:title>Supporting Early Literacy Learning</dc:title>
</cp:coreProperties>
</file>